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4CF-81BB-4D9C-95BB-567D4390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9DF-D23D-4AA5-8AEC-E029DA5B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026-2316-4E8E-A967-D8C9841D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915-1894-4A88-9EAA-9445B1DD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5907-1981-4C3D-858F-6E355C98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18FA-139F-4472-9709-1F4BFE20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A117-14A2-47DF-A037-FA280372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3863-5E4F-42B0-9779-9934F6AA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AB43-2DE7-4AE1-BBA9-B59C9475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F808-B277-4C32-944F-C89B86E0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CFC5-C0D0-4A85-BB41-1AB7D8FA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27F7-1C35-4E67-8837-FA7C3571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2039-6117-4032-87FC-57263DFB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BF65-65DB-4548-BC0B-010424D0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BC0A-7FE8-4301-8228-AF67B310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0C16-2DDB-4873-82C5-D4DDA936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4FC0-2354-45DD-B037-72D1D7A0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4AB-CB7F-43C2-A5E1-B731E0B6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FDE-214C-490E-A559-DD902137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83A0-9E20-49BA-BF17-9847CDB3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2732-7B04-42CB-ACA0-91E0E891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BF3-0995-4BCA-8418-8E7EA665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B30-A50A-41D8-93D7-0BCDF150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FD28-D8FC-4A3B-AC17-56D0C911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4BAB-0F38-4A0F-8072-D5A9095E5BD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24F3-E21D-4B79-92AF-1CCD64D9D9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752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26000"/>
                </a:solidFill>
                <a:latin typeface="Garamond"/>
              </a:rPr>
              <a:t>Do Now 8-25-2010</a:t>
            </a:r>
            <a:br>
              <a:rPr sz="4300"/>
            </a:br>
            <a:r>
              <a:rPr b="1" lang="en-US" sz="4300" spc="-1" strike="noStrike">
                <a:solidFill>
                  <a:srgbClr val="626000"/>
                </a:solidFill>
                <a:latin typeface="Garamond"/>
              </a:rPr>
              <a:t>I can use reading strategies and respond critically to literature by using text evidence.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520" y="297180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NSWER THE FOLLOWING QUESTION IN COMPLETE SENTENC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700" spc="-1" strike="noStrike">
                <a:solidFill>
                  <a:srgbClr val="000000"/>
                </a:solidFill>
                <a:latin typeface="Verdana"/>
              </a:rPr>
              <a:t>When you read, what do you do in order to comprehend text? 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ading Strategy Jigsa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your partner, read the passage and do what the slip of paper instructs you to do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you finish the task on your paper, talk with your partner about what you think the author is implying.  In other words,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What message is the author trying to get acros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dependent Read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 the rules of Reading Workshop as you read independentl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r today you will practice writing a response on the wiki.  Think about what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rateg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ou will practice.  Maybe use post-it notes to hold your think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 Response Practi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link titled “Homework Discussion Response Practice,” practice writing a response based on your OWN INDEPENDENT READING BOOK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e any strateg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 outline and examples I gave you to guide your respon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1:09:30Z</dcterms:created>
  <dc:creator>Administrator</dc:creator>
  <dc:description/>
  <dc:language>en-US</dc:language>
  <cp:lastModifiedBy>Administrator</cp:lastModifiedBy>
  <dcterms:modified xsi:type="dcterms:W3CDTF">2010-08-25T02:58:16Z</dcterms:modified>
  <cp:revision>2</cp:revision>
  <dc:subject/>
  <dc:title>Do Now 8-25-2010 I can use reading strategies and respond critically to literature by using text evidence.</dc:title>
</cp:coreProperties>
</file>